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7D8B-10D1-45F2-90FB-2A3B78875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74DA-C2BD-4EB8-91F7-21A33145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044F-2412-4942-8D9B-C651EEF2C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A2EE-EA9A-4476-9411-5D2AD2879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D3BE-B474-4D3F-AB31-38D9CFC4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BBD9-FA20-4D6C-943E-1215F07B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8D58-3ED6-471E-8763-A10B7B1A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358F-3439-4F45-803A-71181023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1385-E173-43C9-9735-94E068ED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B11D-557F-4C32-943B-CE65D240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9B96-6B3D-4C12-A69E-4E36EE62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0D98-524D-42A1-89FF-86748689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736C-8661-4A96-9BE2-39B541ECD6F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324000" y="1262160"/>
            <a:ext cx="853416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157320" y="1844640"/>
            <a:ext cx="87357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06280" y="27766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سورة </a:t>
            </a:r>
            <a:r>
              <a:rPr b="1" lang="ar-SA" sz="25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حل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قصة النحل ف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062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حل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28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06280" y="3357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مسميات سورة النح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سورة النع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1557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نح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99216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179280" y="3860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سورة </a:t>
            </a:r>
            <a:r>
              <a:rPr b="1" lang="ar-SA" sz="25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حل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سورة النع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ما ذكر الله فيها من النع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آيات الخلق وآيات النعم وآيات التدب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رابط مستقيم 19"/>
          <p:cNvSpPr/>
          <p:nvPr/>
        </p:nvSpPr>
        <p:spPr>
          <a:xfrm>
            <a:off x="8820000" y="1662120"/>
            <a:ext cx="0" cy="254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لجة قضايا العقي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مواقف المستكبرين ومواقف المتق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وظيفة الرس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رابط كسهم مستقيم 21"/>
          <p:cNvCxnSpPr/>
          <p:nvPr/>
        </p:nvCxnSpPr>
        <p:spPr>
          <a:xfrm flipH="1">
            <a:off x="8456040" y="3766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عنوان 1"/>
          <p:cNvSpPr/>
          <p:nvPr/>
        </p:nvSpPr>
        <p:spPr>
          <a:xfrm>
            <a:off x="250920" y="353376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أحكام الردة والإكراه على الكف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8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992160"/>
          </a:xfrm>
          <a:prstGeom prst="rect">
            <a:avLst/>
          </a:prstGeom>
          <a:ln w="0">
            <a:noFill/>
          </a:ln>
        </p:spPr>
      </p:pic>
      <p:cxnSp>
        <p:nvCxnSpPr>
          <p:cNvPr id="68" name="رابط كسهم مستقيم 28"/>
          <p:cNvCxnSpPr/>
          <p:nvPr/>
        </p:nvCxnSpPr>
        <p:spPr>
          <a:xfrm flipH="1">
            <a:off x="8456040" y="42066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عنوان 1"/>
          <p:cNvSpPr/>
          <p:nvPr/>
        </p:nvSpPr>
        <p:spPr>
          <a:xfrm>
            <a:off x="250920" y="39736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خطورة جحود النعم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179280" y="1455840"/>
            <a:ext cx="8798040" cy="5213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82320" cy="992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1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1T23:24:42Z</dcterms:modified>
  <cp:revision>1824</cp:revision>
  <dc:subject/>
  <dc:title>عرض تقديمي في PowerPoint</dc:title>
</cp:coreProperties>
</file>